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agi, 2(7)  pag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AF8C-D35E-43EF-8E67-5386D6E5D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D587-1B0C-46E5-B30A-19DF5D817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87E1-FE22-4703-94E3-BC4216B21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7A80-DE90-4529-9F5D-0BC1F770C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D6F-ED6D-4A25-8144-8228BBFACF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D6B-781B-4991-BAB8-E002FDB56D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095-CBF8-41E1-892F-F91A8D6B51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963C-84CA-4255-85E0-14E7D84F79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E773-1A7C-42EE-89FB-A88D226272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1257120"/>
            <a:ext cx="6324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24E2-8BDB-4B25-946B-491365812E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8F9D-168C-4E31-BF3B-C5B40589FE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C8D8-6211-4651-A8DC-32302E6C5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31C-DC3F-4849-9AC2-71C1D1C4E0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48DE-B08D-45C2-9733-6924059457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33D5-E332-4AD6-9B20-256572D9ED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A89A-0E3A-4BFC-B314-91C94C707E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8F0-8E62-47EC-9A82-06A5207D5F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ABCB4-24D2-48C7-808A-A560574CA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9DE3-EDEE-453C-AD5B-B089EE1C9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00F8-E3AD-4EB1-923A-76707B0C9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1257120"/>
            <a:ext cx="6324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FAAA-C887-4E24-992D-C69902823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24589-706A-4F61-8E76-34F78F0E7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923F-28A7-40F5-A100-A7F0C23E8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0849A-9210-4993-BD54-7238332E6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8640"/>
            <a:ext cx="1676520" cy="6399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43000" y="0"/>
            <a:ext cx="1447920" cy="3809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1143000"/>
            <a:ext cx="6324480" cy="1371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3657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EA18-ED7A-4BBD-B782-13C8619ADE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8640"/>
            <a:ext cx="1676520" cy="6399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0"/>
            <a:ext cx="1447920" cy="3809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143000"/>
            <a:ext cx="6324480" cy="1371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1040" y="6086520"/>
            <a:ext cx="133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-360" y="594360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4038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AC77-4EFF-45B8-9980-9B0301C52E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hiagi.com/email-101tips.html" TargetMode="External"/><Relationship Id="rId2" Type="http://schemas.openxmlformats.org/officeDocument/2006/relationships/hyperlink" Target="http://www.thiagi.com/email-101tips.html" TargetMode="External"/><Relationship Id="rId3" Type="http://schemas.openxmlformats.org/officeDocument/2006/relationships/hyperlink" Target="http://www.thiagi.com/email-101tips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E-MAIL GAME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895120" y="289512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228600"/>
            <a:ext cx="6248520" cy="398880"/>
          </a:xfrm>
          <a:prstGeom prst="rect">
            <a:avLst/>
          </a:prstGeom>
          <a:noFill/>
          <a:ln cap="sq"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Thiagi Game Letter, October 1999, Volume 2 (7), page 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bd05045_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4257720" cy="43434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und 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ers asked to predict which 3 ideas received the highest vo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 a copy of the list of id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or scores each prediction on the basis of actual number of votes the 3 ideas recei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1218960"/>
            <a:ext cx="5638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or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ring the person’s choic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person’s 1st choice, multiple the number of votes that the idea received by 3 and give that number of points to the pers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nd choice multiple by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nd choice multiple by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the 3 numbers together for each person’s s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1257120"/>
            <a:ext cx="6629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nouncing the Winner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90560" y="2590560"/>
            <a:ext cx="65530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 an e-mail announcing the results and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showing order of popularit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ound 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showing predicted resul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ound 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actual result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ound 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er with the highest total score wins the g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j0078629" descr=""/>
          <p:cNvPicPr/>
          <p:nvPr/>
        </p:nvPicPr>
        <p:blipFill>
          <a:blip r:embed="rId1"/>
          <a:stretch/>
        </p:blipFill>
        <p:spPr>
          <a:xfrm>
            <a:off x="0" y="4038480"/>
            <a:ext cx="2778120" cy="28195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brief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or reflects on the merit and implementation of the top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of open-ended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 reasons behind sel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 and share ideas via e-mail about how to handle any challe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e01760_" descr=""/>
          <p:cNvPicPr/>
          <p:nvPr/>
        </p:nvPicPr>
        <p:blipFill>
          <a:blip r:embed="rId1"/>
          <a:stretch/>
        </p:blipFill>
        <p:spPr>
          <a:xfrm>
            <a:off x="5181480" y="3422520"/>
            <a:ext cx="2319480" cy="34354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ngth of Gam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 wee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j0078842" descr=""/>
          <p:cNvPicPr/>
          <p:nvPr/>
        </p:nvPicPr>
        <p:blipFill>
          <a:blip r:embed="rId1"/>
          <a:stretch/>
        </p:blipFill>
        <p:spPr>
          <a:xfrm>
            <a:off x="6248520" y="3753000"/>
            <a:ext cx="2571480" cy="3105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rticipa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 to thirty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bd05451_" descr=""/>
          <p:cNvPicPr/>
          <p:nvPr/>
        </p:nvPicPr>
        <p:blipFill>
          <a:blip r:embed="rId1"/>
          <a:stretch/>
        </p:blipFill>
        <p:spPr>
          <a:xfrm>
            <a:off x="2743200" y="4346640"/>
            <a:ext cx="4538520" cy="25113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 how to use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rounds and a debrief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conducted via e-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epar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3200" y="25905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p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a thought-provoking “how to” question that summarizes the 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 a sched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lates from the reference source available 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thiagi</a:t>
            </a: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3"/>
              </a:rPr>
              <a:t>.com/email-101tips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or sends an e-mail with overview of the challenge and g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ounces deadline for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players sends the facilitator an e-mail with 3 ideas for handling the 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tor records all id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tes list of top 10 to 15 id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und 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2840" y="2666880"/>
            <a:ext cx="6172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or post the lists of ideas via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ers vote on the 3 most appealing ideas in rank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or tabulates the votes and ranks the ideas by popula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points for top idea, 2 points for second and 1 point for the third i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ulate the ideas by popularity and rank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21:52:41Z</dcterms:created>
  <dc:creator>Dianne Jones</dc:creator>
  <dc:description/>
  <dc:language>en-US</dc:language>
  <cp:lastModifiedBy>dmungai</cp:lastModifiedBy>
  <dcterms:modified xsi:type="dcterms:W3CDTF">2002-07-20T19:56:24Z</dcterms:modified>
  <cp:revision>10</cp:revision>
  <dc:subject/>
  <dc:title>LABEL A DIAGRAM</dc:title>
</cp:coreProperties>
</file>